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D9C-A7ED-401E-9DA8-9274E572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11F-444F-43FD-9675-535FF298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22D-6226-40C3-8C52-F114C618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AD2-EEAF-44A6-A4B7-E7063409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CAB-02CB-4536-AB58-28B07D31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590-45DE-43A7-8F89-A16CD6DD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64F-FA4F-4278-AC30-E5583D8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CB1-F1E3-499D-904B-EE52E171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12E-4BAE-4CA2-98F2-6812D33B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F27-C4FC-48EE-97D7-62D8A162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8EF-3B51-4A52-A2D7-CEE56F6B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DFA-360E-46D3-B079-87D300F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M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S Gothic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F590-053A-4CBD-8739-A9BE3AD35C6B}" type="slidenum">
              <a:rPr b="0" lang="en-US" sz="1400" spc="-1" strike="noStrike">
                <a:solidFill>
                  <a:srgbClr val="ffff00"/>
                </a:solidFill>
                <a:latin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slide" Target="slide4.xml"/><Relationship Id="rId27" Type="http://schemas.openxmlformats.org/officeDocument/2006/relationships/slide" Target="slide21.xml"/><Relationship Id="rId28" Type="http://schemas.openxmlformats.org/officeDocument/2006/relationships/slide" Target="slide8.xml"/><Relationship Id="rId29" Type="http://schemas.openxmlformats.org/officeDocument/2006/relationships/slide" Target="slide10.xml"/><Relationship Id="rId30" Type="http://schemas.openxmlformats.org/officeDocument/2006/relationships/slide" Target="slide24.xml"/><Relationship Id="rId31" Type="http://schemas.openxmlformats.org/officeDocument/2006/relationships/slide" Target="slide18.xml"/><Relationship Id="rId32" Type="http://schemas.openxmlformats.org/officeDocument/2006/relationships/slide" Target="slide6.xml"/><Relationship Id="rId33" Type="http://schemas.openxmlformats.org/officeDocument/2006/relationships/slide" Target="slide16.xml"/><Relationship Id="rId34" Type="http://schemas.openxmlformats.org/officeDocument/2006/relationships/slide" Target="slide28.xml"/><Relationship Id="rId35" Type="http://schemas.openxmlformats.org/officeDocument/2006/relationships/slide" Target="slide14.xml"/><Relationship Id="rId36" Type="http://schemas.openxmlformats.org/officeDocument/2006/relationships/slide" Target="slide13.xml"/><Relationship Id="rId37" Type="http://schemas.openxmlformats.org/officeDocument/2006/relationships/slide" Target="slide25.xml"/><Relationship Id="rId38" Type="http://schemas.openxmlformats.org/officeDocument/2006/relationships/slide" Target="slide12.xml"/><Relationship Id="rId39" Type="http://schemas.openxmlformats.org/officeDocument/2006/relationships/slide" Target="slide9.xml"/><Relationship Id="rId40" Type="http://schemas.openxmlformats.org/officeDocument/2006/relationships/slide" Target="slide22.xml"/><Relationship Id="rId41" Type="http://schemas.openxmlformats.org/officeDocument/2006/relationships/slide" Target="slide5.xml"/><Relationship Id="rId42" Type="http://schemas.openxmlformats.org/officeDocument/2006/relationships/slide" Target="slide23.xml"/><Relationship Id="rId43" Type="http://schemas.openxmlformats.org/officeDocument/2006/relationships/slide" Target="slide19.xml"/><Relationship Id="rId44" Type="http://schemas.openxmlformats.org/officeDocument/2006/relationships/slide" Target="slide7.xml"/><Relationship Id="rId45" Type="http://schemas.openxmlformats.org/officeDocument/2006/relationships/slide" Target="slide27.xml"/><Relationship Id="rId46" Type="http://schemas.openxmlformats.org/officeDocument/2006/relationships/slide" Target="slide15.xml"/><Relationship Id="rId47" Type="http://schemas.openxmlformats.org/officeDocument/2006/relationships/slide" Target="slide26.xml"/><Relationship Id="rId48" Type="http://schemas.openxmlformats.org/officeDocument/2006/relationships/slide" Target="slide11.xml"/><Relationship Id="rId49" Type="http://schemas.openxmlformats.org/officeDocument/2006/relationships/slide" Target="slide20.xml"/><Relationship Id="rId50" Type="http://schemas.openxmlformats.org/officeDocument/2006/relationships/slide" Target="slide17.xml"/><Relationship Id="rId51" Type="http://schemas.openxmlformats.org/officeDocument/2006/relationships/image" Target="../media/image2.png"/><Relationship Id="rId5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9.xml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9880" y="8380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d121"/>
                    </a:gs>
                  </a:gsLst>
                  <a:lin ang="5400000"/>
                </a:gradFill>
                <a:latin typeface="Impact"/>
              </a:rPr>
              <a:t>AP European Hi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d12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8001000" cy="24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05720" y="6125400"/>
            <a:ext cx="400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APEH: Review Quiz #3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0160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96524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He declared the birth of the German Empire after defeating France in 1871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1938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One of the most notable figures from the Crimean War was this British field nurs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6417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For helping Piedmont-Sardinia fight an 1859 war against Austria, France gained these territorie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86080" y="1432080"/>
            <a:ext cx="617220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harcoal"/>
              </a:rPr>
              <a:t>Daily Doubl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harcoal"/>
              <a:ea typeface="Charco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0415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1899 colonial war featured Britain fighting Dutch Afrikaners in South Africa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economic system of early modern Europe sought a self-sufficient national econom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9652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Scottish </a:t>
            </a:r>
            <a:r>
              <a:rPr b="1" i="1" lang="en-US" sz="3000" spc="-1" strike="noStrike">
                <a:solidFill>
                  <a:srgbClr val="fcf305"/>
                </a:solidFill>
                <a:latin typeface="Times New Roman"/>
              </a:rPr>
              <a:t>philosophe</a:t>
            </a: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 used the metaphor of the "invisible hand" to describe the natural law of economic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173664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 French socialist Louis Blanc was influential in establishing these during the Revolution of 1848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81296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It was the economic system used by fascist leaders Mussolini and Hitler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6765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363600" y="2041200"/>
            <a:ext cx="847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20th century British economist called for deficit spending during times of economic hardship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He ended his famous manifesto by calling for "Workers of the world, unite!"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estants do not forget to…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lways phrase your question in the form of an answer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s on your buzzers it is time to play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680" y="4675320"/>
            <a:ext cx="8001000" cy="241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405480"/>
            <a:ext cx="452520" cy="4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electrician was elected president of Poland in 1989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In the years following the Napoleonic Wars, these British workers were known for smashing industrial machinery and farm equipment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11788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British working class group of the 1830s and 1840s called for pay for members of Parliament and universal male suffrag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016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 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196524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 workers who seized control of Paris in 1871 were known by this nam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167652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French queen lost her head in the Reign of Terror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3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73664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She crushed Pugachev's Rebellion in Russia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woman of Florentine ancestry was behind the St. Bartholomew's Day Massacr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0160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196524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French scientist was influential in the discovery of radiation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25280"/>
            <a:ext cx="1828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Along with Karl Liebknecht, this woman was a leader of the 1919 Spartacist Revolt in Germany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125280"/>
            <a:ext cx="22096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22860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SALON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1337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88620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13372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21337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739152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21337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21337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5638680" y="16002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388620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388620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6"/>
          <a:stretch/>
        </p:blipFill>
        <p:spPr>
          <a:xfrm>
            <a:off x="388620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7"/>
          <a:stretch/>
        </p:blipFill>
        <p:spPr>
          <a:xfrm>
            <a:off x="388620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8"/>
          <a:stretch/>
        </p:blipFill>
        <p:spPr>
          <a:xfrm>
            <a:off x="563868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9"/>
          <a:stretch/>
        </p:blipFill>
        <p:spPr>
          <a:xfrm>
            <a:off x="563868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0"/>
          <a:stretch/>
        </p:blipFill>
        <p:spPr>
          <a:xfrm>
            <a:off x="7391520" y="25909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1"/>
          <a:stretch/>
        </p:blipFill>
        <p:spPr>
          <a:xfrm>
            <a:off x="7391520" y="3581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2"/>
          <a:stretch/>
        </p:blipFill>
        <p:spPr>
          <a:xfrm>
            <a:off x="5638680" y="5562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3"/>
          <a:stretch/>
        </p:blipFill>
        <p:spPr>
          <a:xfrm>
            <a:off x="739152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4"/>
          <a:stretch/>
        </p:blipFill>
        <p:spPr>
          <a:xfrm>
            <a:off x="5638680" y="4572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5"/>
          <a:stretch/>
        </p:blipFill>
        <p:spPr>
          <a:xfrm>
            <a:off x="7391520" y="556272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5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16002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1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58128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$3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59092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2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572000"/>
            <a:ext cx="1600200" cy="102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400</a:t>
            </a: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nlightenment</a:t>
            </a:r>
            <a:endParaRPr b="0" lang="en-US" sz="1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 of the 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9th Century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conomic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ker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0"/>
            <a:ext cx="160020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amous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men</a:t>
            </a:r>
            <a:endParaRPr b="0" lang="en-US" sz="2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64580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65530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Final Jeopardy</a:t>
            </a:r>
            <a:endParaRPr b="0" lang="en-US" sz="16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1"/>
          <a:stretch/>
        </p:blipFill>
        <p:spPr>
          <a:xfrm>
            <a:off x="-177840" y="6680160"/>
            <a:ext cx="35568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6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2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8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4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6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2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8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4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6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2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8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6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2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4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6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8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4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125280"/>
            <a:ext cx="2133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THOMAS HOBBE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125280"/>
            <a:ext cx="2133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25146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VINDICATION OF THE RIGHTS OF WOMAN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25280"/>
            <a:ext cx="22096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DE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25280"/>
            <a:ext cx="2133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IMMANUEL KANT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the NAPOLEONIC WAR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252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 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OTTO VON BISMARCK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22860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FLORENCE NIGHTINGAL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NICE and SAVOY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the BOER WAR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252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 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MERCANTAL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MS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Usually hosted by aristocratic women, these gatherings often featured writers, playwrights, artists, scientists and political thinker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305920" y="1066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29600" y="762120"/>
            <a:ext cx="60948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5280"/>
            <a:ext cx="22860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4757760" y="29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ADAM SMITH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228600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NATIONAL WORKSHOP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as CORPORATISM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438280"/>
            <a:ext cx="670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JOHN MAYNARD KEYNE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KARL MARX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LECH WALESA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ere the LUDDITE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ere the CHARTIST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25280"/>
            <a:ext cx="190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at were the COMMUNARDS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20484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79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MARIE ANTOINETT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25280"/>
            <a:ext cx="22860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81296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In his book </a:t>
            </a:r>
            <a:r>
              <a:rPr b="1" i="1" lang="en-US" sz="3000" spc="-1" strike="noStrike">
                <a:solidFill>
                  <a:srgbClr val="fcf305"/>
                </a:solidFill>
                <a:latin typeface="Times New Roman"/>
              </a:rPr>
              <a:t>Leviathan</a:t>
            </a: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, he argued that life for man was "solitary, nasty, brutish and short."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2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259092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CATHERINE THE GREAT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CATHERINE DE MEDICI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28520"/>
            <a:ext cx="19051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8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266688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MARIE CURIE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125280"/>
            <a:ext cx="19051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1" name=""/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2" name=""/>
          <p:cNvSpPr/>
          <p:nvPr/>
        </p:nvSpPr>
        <p:spPr>
          <a:xfrm>
            <a:off x="1219320" y="2514600"/>
            <a:ext cx="67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Who was ROSA LUXEMBURG?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S Gothic"/>
              </a:rPr>
              <a:t>Final Jeopardy</a:t>
            </a:r>
            <a:endParaRPr b="0" lang="en-US" sz="60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000" y="1447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ategory is …...</a:t>
            </a:r>
            <a:endParaRPr b="0" lang="en-US" sz="40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2651040"/>
            <a:ext cx="592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 History</a:t>
            </a:r>
            <a:endParaRPr b="0" lang="en-US" sz="48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6" name=""/>
          <p:cNvSpPr/>
          <p:nvPr/>
        </p:nvSpPr>
        <p:spPr>
          <a:xfrm>
            <a:off x="1035000" y="422820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e your wagers please ….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8229600" y="579132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9194"/>
                </a:moveTo>
                <a:lnTo>
                  <a:pt x="17806" y="16200"/>
                </a:lnTo>
                <a:lnTo>
                  <a:pt x="3794" y="232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298" name="Untitled:Jeopardy! Folder:Jeopardy Template:think.mp3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29160" y="-108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</a:t>
            </a:r>
            <a:endParaRPr b="0" lang="en-US" sz="4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401004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1" name=""/>
          <p:cNvSpPr/>
          <p:nvPr/>
        </p:nvSpPr>
        <p:spPr>
          <a:xfrm>
            <a:off x="746280" y="415296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2" name=""/>
          <p:cNvSpPr/>
          <p:nvPr/>
        </p:nvSpPr>
        <p:spPr>
          <a:xfrm>
            <a:off x="3946680" y="42670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412080"/>
            <a:ext cx="39621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The sculpture pictured here was the work of this Baroque artist.</a:t>
            </a:r>
            <a:endParaRPr b="0" lang="en-US" sz="35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001000" cy="24112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7913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07" name=""/>
          <p:cNvSpPr/>
          <p:nvPr/>
        </p:nvSpPr>
        <p:spPr>
          <a:xfrm>
            <a:off x="7573680" y="60948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269064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S Gothic"/>
              </a:rPr>
              <a:t>What is</a:t>
            </a:r>
            <a:endParaRPr b="0" lang="en-US" sz="4400" spc="-1" strike="noStrike">
              <a:solidFill>
                <a:srgbClr val="0000ff"/>
              </a:solidFill>
              <a:latin typeface="MS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Who was</a:t>
            </a: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81532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312" name=""/>
          <p:cNvSpPr/>
          <p:nvPr/>
        </p:nvSpPr>
        <p:spPr>
          <a:xfrm>
            <a:off x="343080" y="34282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Bernini.</a:t>
            </a:r>
            <a:endParaRPr b="0" lang="en-US" sz="80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198108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In this book Mary Wollstonecraft argued that women needed a primary education in order to participate in the political process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5280"/>
            <a:ext cx="27432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1676520"/>
            <a:ext cx="6705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philosophical movement believed that God created the universe, but acted as an absentee landlord in its day-to-day maintenance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5280"/>
            <a:ext cx="25146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76520" y="2117880"/>
            <a:ext cx="5715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is German philosopher wrote "Dare to Know!"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5280"/>
            <a:ext cx="2133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1676520"/>
            <a:ext cx="6705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305"/>
                </a:solidFill>
                <a:latin typeface="Times New Roman"/>
              </a:rPr>
              <a:t>These wars ended with the decisive Battle of Waterloo (1815) and the exile of a celebrated Corsican general.</a:t>
            </a:r>
            <a:endParaRPr b="0" lang="en-US" sz="30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38080" y="50292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2" h="21600">
                <a:moveTo>
                  <a:pt x="13872" y="14281"/>
                </a:moveTo>
                <a:lnTo>
                  <a:pt x="13872" y="12323"/>
                </a:lnTo>
                <a:cubicBezTo>
                  <a:pt x="13872" y="11496"/>
                  <a:pt x="14202" y="10800"/>
                  <a:pt x="14803" y="10800"/>
                </a:cubicBezTo>
                <a:cubicBezTo>
                  <a:pt x="15934" y="10800"/>
                  <a:pt x="16831" y="9434"/>
                  <a:pt x="16831" y="7849"/>
                </a:cubicBezTo>
                <a:cubicBezTo>
                  <a:pt x="16831" y="5534"/>
                  <a:pt x="14977" y="3794"/>
                  <a:pt x="12766" y="3794"/>
                </a:cubicBezTo>
                <a:cubicBezTo>
                  <a:pt x="10555" y="3794"/>
                  <a:pt x="8884" y="5534"/>
                  <a:pt x="8884" y="7849"/>
                </a:cubicBezTo>
                <a:lnTo>
                  <a:pt x="10738" y="7849"/>
                </a:lnTo>
                <a:cubicBezTo>
                  <a:pt x="10738" y="6709"/>
                  <a:pt x="11661" y="5821"/>
                  <a:pt x="12766" y="5821"/>
                </a:cubicBezTo>
                <a:cubicBezTo>
                  <a:pt x="13872" y="5821"/>
                  <a:pt x="14803" y="6709"/>
                  <a:pt x="14803" y="7849"/>
                </a:cubicBezTo>
                <a:cubicBezTo>
                  <a:pt x="14803" y="8589"/>
                  <a:pt x="14333" y="9320"/>
                  <a:pt x="13872" y="9320"/>
                </a:cubicBezTo>
                <a:cubicBezTo>
                  <a:pt x="12766" y="9320"/>
                  <a:pt x="11661" y="10800"/>
                  <a:pt x="11661" y="12323"/>
                </a:cubicBezTo>
                <a:lnTo>
                  <a:pt x="11661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2528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s of the 19th Century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543800" y="5791320"/>
            <a:ext cx="1143000" cy="685800"/>
          </a:xfrm>
          <a:custGeom>
            <a:avLst/>
            <a:gdLst>
              <a:gd name="textAreaLeft" fmla="*/ 171360 w 1143000"/>
              <a:gd name="textAreaRight" fmla="*/ 9716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0592" y="5400"/>
                </a:lnTo>
                <a:lnTo>
                  <a:pt x="5400" y="5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0592" y="16200"/>
                </a:lnTo>
                <a:lnTo>
                  <a:pt x="30592" y="5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2" y="16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2" h="21600">
                <a:moveTo>
                  <a:pt x="13971" y="10800"/>
                </a:moveTo>
                <a:lnTo>
                  <a:pt x="22021" y="6775"/>
                </a:lnTo>
                <a:lnTo>
                  <a:pt x="22021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MS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2:58:12Z</dcterms:created>
  <dc:creator>System Administrator</dc:creator>
  <dc:description/>
  <dc:language>en-US</dc:language>
  <cp:lastModifiedBy>Danielle Walters</cp:lastModifiedBy>
  <cp:lastPrinted>2002-11-04T22:12:16Z</cp:lastPrinted>
  <dcterms:modified xsi:type="dcterms:W3CDTF">2005-04-29T02:12:23Z</dcterms:modified>
  <cp:revision>477</cp:revision>
  <dc:subject/>
  <dc:title>No Slide Title</dc:title>
</cp:coreProperties>
</file>